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D1C22-C3B8-4449-9961-9AD9CB44C1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the stimulus for a review can come from external requir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from changing practice, sometimes because evidence tells us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got it wrong.The experiment with no Mid Year exams was an example of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vidence that we gathered indicated that while some liked the chang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window, other preferred the tried and true of a Mid Year exam s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 experiment was reviewed and the decision made to return to an exam slo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takes all sorts of forms. It is not just quantitative data. Qualitative da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bservation is also very usefu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some of the areas of Paul MacKinley’s brief</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lection of RIV’s portfolio</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LM’s responsibiliti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ori and Pasifika achievement and LRN</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NR has  shared some of his review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o Hart has a more extensive document that I will include in a word document for all departmen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hristine’s is more extensive than this as well</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ky Gray changes her programmes based upon self review</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eachers need to consider what you do on your own initiative and for your departmen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ove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the students are at the heart of the mat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fferent colours denote different reponsi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REEN = Teachers, HODs, HOFs, SMT, Headm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LUE = HODs, HOFs, SMT, Headmaster and teac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UNNY GREEN = BOT and Headm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INK = All stakehol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OWN = SMT and all Special gro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nse a starting point is the last ERO Review from 2007 ( a summary has been placed on the ERO page of the MAGSPD site) but there needs to be alignment with the Strategic Plan and the annual plans that are derived from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trategic Plan (SP) runs from 2006-2010 so ERO came in the middle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plan. The SP has regularly been reviewed and a final review will infor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at the stage of writing our next SP during Term 4 of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ste the url below into your brows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magspd.wikispaces.com/ERO+AND+SELF+REVIE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legislation is often not well known but we are mandated to abide by seve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ts. These can change as governments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re is a checklist that we are required to complete on behalf of the BO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covers the headings above and are almost always completed by SM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an example of the specific legislation that we are expected to comply with in relation to the BOT. Often the reality is that a member of the SMT completes the monitoring and application of these items eg Attendance, Copyright etc</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table gives an example of how some of what we do is regularly review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imes a review is completed while it is operational eg the Assess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er might have 3 or 4 versions as extenuating circumstances kick i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A7D128-8566-4002-B1A4-6FDD2A12A5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98B14-BB24-44BC-9349-D66A06B4A8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B7446D-5C82-468E-82D2-4EE299C0D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1B7D8-DFD2-41DD-AC06-0F5EA2A30E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D33E70-1966-4420-B184-F0EA2C436E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01808F-6557-48CB-A0E4-A70A2495E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49259-260A-4CCD-9ABD-DD17522FB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7A16D-78C0-46DB-A03F-7DF5BD726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24C48-27EE-44C3-8EF9-B1CC1EAE8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2E704-D191-4E0C-8611-935F488CD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A2D595-8B28-4B20-B0E9-B7ECB55FF5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54428-E032-40E0-8783-22035F9D02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EF8F-FEB3-47D5-95EA-90B6C14A37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609480" y="115920"/>
            <a:ext cx="7620120" cy="66657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magspd.wikispaces.com/ERO+AND+SELF+REVIEW" TargetMode="External"/><Relationship Id="rId2" Type="http://schemas.openxmlformats.org/officeDocument/2006/relationships/hyperlink" Target="http://www.magspd.wikispaces.com/" TargetMode="External"/><Relationship Id="rId3" Type="http://schemas.openxmlformats.org/officeDocument/2006/relationships/hyperlink" Target="http://www.magspd.wikispaces.com/" TargetMode="External"/><Relationship Id="rId4" Type="http://schemas.openxmlformats.org/officeDocument/2006/relationships/hyperlink" Target="http://www.magspd.wikispaces.com/" TargetMode="External"/><Relationship Id="rId5" Type="http://schemas.openxmlformats.org/officeDocument/2006/relationships/hyperlink" Target="http://www.magspd.wikispaces.com/" TargetMode="External"/><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ount Albert Grammar School</a:t>
            </a:r>
            <a:endParaRPr b="0" lang="en-US" sz="4400" spc="-1" strike="noStrike">
              <a:solidFill>
                <a:srgbClr val="000000"/>
              </a:solidFill>
              <a:latin typeface="Arial"/>
            </a:endParaRPr>
          </a:p>
        </p:txBody>
      </p:sp>
      <p:sp>
        <p:nvSpPr>
          <p:cNvPr id="50" name=""/>
          <p:cNvSpPr/>
          <p:nvPr/>
        </p:nvSpPr>
        <p:spPr>
          <a:xfrm>
            <a:off x="-92160" y="640080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51" name=""/>
          <p:cNvSpPr/>
          <p:nvPr/>
        </p:nvSpPr>
        <p:spPr>
          <a:xfrm>
            <a:off x="1219320" y="2286000"/>
            <a:ext cx="6324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Bold"/>
              </a:rPr>
              <a:t>ERO</a:t>
            </a:r>
            <a:endParaRPr b="0" lang="en-US" sz="6000" spc="-1" strike="noStrike">
              <a:solidFill>
                <a:srgbClr val="000000"/>
              </a:solidFill>
              <a:latin typeface="Arial"/>
            </a:endParaRPr>
          </a:p>
        </p:txBody>
      </p:sp>
      <p:sp>
        <p:nvSpPr>
          <p:cNvPr id="52" name=""/>
          <p:cNvSpPr/>
          <p:nvPr/>
        </p:nvSpPr>
        <p:spPr>
          <a:xfrm>
            <a:off x="1523880" y="4343400"/>
            <a:ext cx="64008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400" spc="-1" strike="noStrike">
                <a:solidFill>
                  <a:srgbClr val="000000"/>
                </a:solidFill>
                <a:latin typeface="Verdana Bold"/>
              </a:rPr>
              <a:t>Ko te Tamaiti te P</a:t>
            </a:r>
            <a:r>
              <a:rPr b="0" i="1" lang="en-US" sz="2400" spc="-1" strike="noStrike">
                <a:solidFill>
                  <a:srgbClr val="000000"/>
                </a:solidFill>
                <a:latin typeface="Verdana Bold"/>
              </a:rPr>
              <a:t>uta</a:t>
            </a:r>
            <a:r>
              <a:rPr b="0" i="1" lang="en-NZ" sz="2400" spc="-1" strike="noStrike">
                <a:solidFill>
                  <a:srgbClr val="000000"/>
                </a:solidFill>
                <a:latin typeface="Verdana Bold"/>
              </a:rPr>
              <a:t>ke o te Kaupapa</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NZ" sz="2400" spc="-1" strike="noStrike">
                <a:solidFill>
                  <a:srgbClr val="000000"/>
                </a:solidFill>
                <a:latin typeface="Verdana Bold"/>
              </a:rPr>
              <a:t>The Child – The Heart of the Ma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Bold"/>
              </a:rPr>
              <a:t>ANALYSIS &amp; REVIEWING</a:t>
            </a:r>
            <a:endParaRPr b="0" lang="en-US" sz="2400" spc="-1" strike="noStrike">
              <a:solidFill>
                <a:srgbClr val="000000"/>
              </a:solidFill>
              <a:latin typeface="Arial"/>
            </a:endParaRPr>
          </a:p>
        </p:txBody>
      </p:sp>
      <p:graphicFrame>
        <p:nvGraphicFramePr>
          <p:cNvPr id="77" name=""/>
          <p:cNvGraphicFramePr/>
          <p:nvPr/>
        </p:nvGraphicFramePr>
        <p:xfrm>
          <a:off x="228600" y="1219320"/>
          <a:ext cx="8686800" cy="5153040"/>
        </p:xfrm>
        <a:graphic>
          <a:graphicData uri="http://schemas.openxmlformats.org/drawingml/2006/table">
            <a:tbl>
              <a:tblPr/>
              <a:tblGrid>
                <a:gridCol w="2232000"/>
                <a:gridCol w="2416320"/>
                <a:gridCol w="2222280"/>
                <a:gridCol w="18162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Bold"/>
                        </a:rPr>
                        <a:t>FOC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Bold"/>
                        </a:rPr>
                        <a:t>STIMULU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Bold"/>
                        </a:rPr>
                        <a:t>TIM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Bold"/>
                        </a:rPr>
                        <a:t>DATA and REVI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25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IOR GRADU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ategic Pla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 plans</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school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 2009</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9 2010</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 9/10 20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RM </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L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TABLE REVIE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CURRICULUM</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EQUITI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1 AND 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RM 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1181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YEAR TEACHER DEVELOPMENT PLA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trategic Pla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nual pla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descrip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earll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 gathered in an ongoing way</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d and modified yearl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FORMAL MID YEAR EXAM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FEEDBACK</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AL 200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 STAFF &amp; STUD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219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E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LANCED LEARNING V READIN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D OF YEAR</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EARCH</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SI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DATA GATHERING</a:t>
            </a:r>
            <a:endParaRPr b="0" lang="en-US" sz="2800" spc="-1" strike="noStrike">
              <a:solidFill>
                <a:srgbClr val="000000"/>
              </a:solidFill>
              <a:latin typeface="Arial"/>
            </a:endParaRPr>
          </a:p>
        </p:txBody>
      </p:sp>
      <p:graphicFrame>
        <p:nvGraphicFramePr>
          <p:cNvPr id="79" name=""/>
          <p:cNvGraphicFramePr/>
          <p:nvPr/>
        </p:nvGraphicFramePr>
        <p:xfrm>
          <a:off x="152280" y="838080"/>
          <a:ext cx="8762760" cy="5789520"/>
        </p:xfrm>
        <a:graphic>
          <a:graphicData uri="http://schemas.openxmlformats.org/drawingml/2006/table">
            <a:tbl>
              <a:tblPr/>
              <a:tblGrid>
                <a:gridCol w="2920680"/>
                <a:gridCol w="2921040"/>
                <a:gridCol w="2921040"/>
              </a:tblGrid>
              <a:tr h="445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Bold"/>
                        </a:rPr>
                        <a:t>D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RESPONSIBIL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APPLICA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8 TES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K</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FIL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sTT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E/DRK/SG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TERACY - NUMERAC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ior Graduation (Y9)</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M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duation Diplom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012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CEA dat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V/LR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V/LRN</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V - HOD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ademic tracking</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AOP</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s analysi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580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rnal Moder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MS/HOFS/HODS/TIC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ing internal assessm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voic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STA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from student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5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ff survey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T/HOFs/STA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alysis, feedback , appl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6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ZCER Staff Surve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NR - STAFF</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 and My school NZCER</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vey Student engagement</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 9 and 10 engag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to staff</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44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S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at Staff Meeti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MAC</a:t>
            </a:r>
            <a:endParaRPr b="0" lang="en-US" sz="2800" spc="-1" strike="noStrike">
              <a:solidFill>
                <a:srgbClr val="000000"/>
              </a:solidFill>
              <a:latin typeface="Arial"/>
            </a:endParaRPr>
          </a:p>
        </p:txBody>
      </p:sp>
      <p:graphicFrame>
        <p:nvGraphicFramePr>
          <p:cNvPr id="81" name=""/>
          <p:cNvGraphicFramePr/>
          <p:nvPr/>
        </p:nvGraphicFramePr>
        <p:xfrm>
          <a:off x="380880" y="835200"/>
          <a:ext cx="8382240" cy="5833800"/>
        </p:xfrm>
        <a:graphic>
          <a:graphicData uri="http://schemas.openxmlformats.org/drawingml/2006/table">
            <a:tbl>
              <a:tblPr/>
              <a:tblGrid>
                <a:gridCol w="2210040"/>
                <a:gridCol w="2971800"/>
                <a:gridCol w="3200400"/>
              </a:tblGrid>
              <a:tr h="285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RTFOLIO</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CES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VIDENC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9385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spension and Stand dow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QAM re Procedu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ister maintaine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by term and Annual Analysi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Statistics - ethnicity, gender 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to SMT and Boar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enda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es emailed to Associate Principal</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ed on Spreadsheet and Websit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dated 3 times a year in the Staff Upd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unicated through Quarter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02672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vil Defence Plan / Drill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Fire Drill, Lockdown Procedures with Staff</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mbly Presentatio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side Presenters / Revie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going refinemen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eeting points to four</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and Deputy Warde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717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of Year Inform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from SM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in Week 2 every ye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ginning of the Year Review</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 - Coloured Bookle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paration of P.D Programme</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12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hool Operations Review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rm by term School Review of key operation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to staff </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 for School Review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from Parents (Yr 9)</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veys in Mail out</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02636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OTC Records / Procedures</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QAM re: Procedur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perwork lodged with A.P</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of EOTC annually</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EOTC Procedures implemented in 2010</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V</a:t>
            </a:r>
            <a:endParaRPr b="0" lang="en-US" sz="4400" spc="-1" strike="noStrike">
              <a:solidFill>
                <a:srgbClr val="000000"/>
              </a:solidFill>
              <a:latin typeface="Arial"/>
            </a:endParaRPr>
          </a:p>
        </p:txBody>
      </p:sp>
      <p:pic>
        <p:nvPicPr>
          <p:cNvPr id="83" name="" descr=""/>
          <p:cNvPicPr/>
          <p:nvPr/>
        </p:nvPicPr>
        <p:blipFill>
          <a:blip r:embed="rId1"/>
          <a:stretch/>
        </p:blipFill>
        <p:spPr>
          <a:xfrm>
            <a:off x="0" y="838080"/>
            <a:ext cx="9144000" cy="586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76212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 </a:t>
            </a:r>
            <a:r>
              <a:rPr b="0" lang="en-US" sz="2800" spc="-1" strike="noStrike">
                <a:solidFill>
                  <a:srgbClr val="000000"/>
                </a:solidFill>
                <a:latin typeface="Verdana Bold"/>
              </a:rPr>
              <a:t>WLM </a:t>
            </a:r>
            <a:endParaRPr b="0" lang="en-US" sz="2800" spc="-1" strike="noStrike">
              <a:solidFill>
                <a:srgbClr val="000000"/>
              </a:solidFill>
              <a:latin typeface="Arial"/>
            </a:endParaRPr>
          </a:p>
        </p:txBody>
      </p:sp>
      <p:graphicFrame>
        <p:nvGraphicFramePr>
          <p:cNvPr id="85" name=""/>
          <p:cNvGraphicFramePr/>
          <p:nvPr/>
        </p:nvGraphicFramePr>
        <p:xfrm>
          <a:off x="228600" y="727200"/>
          <a:ext cx="8763120" cy="6130800"/>
        </p:xfrm>
        <a:graphic>
          <a:graphicData uri="http://schemas.openxmlformats.org/drawingml/2006/table">
            <a:tbl>
              <a:tblPr/>
              <a:tblGrid>
                <a:gridCol w="1600200"/>
                <a:gridCol w="4038480"/>
                <a:gridCol w="312444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PORTFO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PROC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EVIDE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1689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ADEMIC INSTITUT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Term 1/2/3/4 Self Review</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PT marks analysis of ACCEL students &amp; address concerns re individuals &amp; programme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e -Student Review Sheets &amp; Report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ks Analysi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10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LER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review of general vies/feeling re accel programm = -Survey student &amp; staff perspective re acceleration programme - reviewed 2009 experience &amp; opinion to feed into future programm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EL/SCHOL REVIEW - WLM</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3615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LARSHI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0 - Dept templates completed to outline proposal/plan to address schol support.  =  Dept to appt person I/c Schol within Dep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ULTY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lates collated - WLM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949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PORTI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nual Review/update of Manual</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view Night - reviews - sent End Term 1 Mailou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Conferencing - trial with lower YR9 &amp; 10 bands</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FEEDBACK to Faculty re reports - quality etc &amp;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ual</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ent Feed back</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ion with tch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
        <p:nvSpPr>
          <p:cNvPr id="86" name=""/>
          <p:cNvSpPr/>
          <p:nvPr/>
        </p:nvSpPr>
        <p:spPr>
          <a:xfrm>
            <a:off x="326880" y="24987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61760" y="-152640"/>
            <a:ext cx="78483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LRN</a:t>
            </a:r>
            <a:endParaRPr b="0" lang="en-US" sz="2800" spc="-1" strike="noStrike">
              <a:solidFill>
                <a:srgbClr val="000000"/>
              </a:solidFill>
              <a:latin typeface="Arial"/>
            </a:endParaRPr>
          </a:p>
        </p:txBody>
      </p:sp>
      <p:graphicFrame>
        <p:nvGraphicFramePr>
          <p:cNvPr id="88" name=""/>
          <p:cNvGraphicFramePr/>
          <p:nvPr/>
        </p:nvGraphicFramePr>
        <p:xfrm>
          <a:off x="0" y="609480"/>
          <a:ext cx="9144000" cy="6315120"/>
        </p:xfrm>
        <a:graphic>
          <a:graphicData uri="http://schemas.openxmlformats.org/drawingml/2006/table">
            <a:tbl>
              <a:tblPr/>
              <a:tblGrid>
                <a:gridCol w="2057400"/>
                <a:gridCol w="3581280"/>
                <a:gridCol w="350532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PORTFOLI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PROC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Bold"/>
                        </a:rPr>
                        <a:t>EVIDE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28810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ori Achiev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Develop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ori Student Leadership</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 Puna o Wairak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nau hu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anau initiativ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ulty Results Analysis Review</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ori BOT Representativ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pahaka</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P</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eer/Tertiary Programm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 Kakan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ademic results for Maori stud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ents of Concern lis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tes of Whanau hu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utes of Te Puna hu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S Websit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S Quarterly</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fec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Performanc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AMAR entri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31384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Achievemen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Liaison</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Parents Committe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culty Results Analysis review</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ltural Concer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BOT Representativ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OP</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teracy Programm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work Centr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SCPL</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fessional Development</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Student Leadership</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ademic results for Pasifika student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mily meeting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C Minutes </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MAR entrie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GS Website</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sifika Parent Evening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y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FNR</a:t>
            </a:r>
            <a:endParaRPr b="0" lang="en-US" sz="2800" spc="-1" strike="noStrike">
              <a:solidFill>
                <a:srgbClr val="000000"/>
              </a:solidFill>
              <a:latin typeface="Arial"/>
            </a:endParaRPr>
          </a:p>
        </p:txBody>
      </p:sp>
      <p:pic>
        <p:nvPicPr>
          <p:cNvPr id="90" name="" descr=""/>
          <p:cNvPicPr/>
          <p:nvPr/>
        </p:nvPicPr>
        <p:blipFill>
          <a:blip r:embed="rId1"/>
          <a:stretch/>
        </p:blipFill>
        <p:spPr>
          <a:xfrm>
            <a:off x="152280" y="990720"/>
            <a:ext cx="8991720" cy="5560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2896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Bold"/>
              </a:rPr>
              <a:t>FACULTY HEAD - ENGLISH</a:t>
            </a:r>
            <a:endParaRPr b="0" lang="en-US" sz="2800" spc="-1" strike="noStrike">
              <a:solidFill>
                <a:srgbClr val="000000"/>
              </a:solidFill>
              <a:latin typeface="Arial"/>
            </a:endParaRPr>
          </a:p>
        </p:txBody>
      </p:sp>
      <p:graphicFrame>
        <p:nvGraphicFramePr>
          <p:cNvPr id="92" name=""/>
          <p:cNvGraphicFramePr/>
          <p:nvPr/>
        </p:nvGraphicFramePr>
        <p:xfrm>
          <a:off x="0" y="585720"/>
          <a:ext cx="9144000" cy="6272280"/>
        </p:xfrm>
        <a:graphic>
          <a:graphicData uri="http://schemas.openxmlformats.org/drawingml/2006/table">
            <a:tbl>
              <a:tblPr/>
              <a:tblGrid>
                <a:gridCol w="2286000"/>
                <a:gridCol w="2327400"/>
                <a:gridCol w="2244600"/>
                <a:gridCol w="228600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FOCU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PROCE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EVIDENC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REVIEW</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7629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Whole Faculty Review –classrooms, resource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 </a:t>
                      </a:r>
                      <a:r>
                        <a:rPr b="1" lang="en-AU" sz="1400" spc="-1" strike="noStrike">
                          <a:solidFill>
                            <a:srgbClr val="000000"/>
                          </a:solidFill>
                          <a:latin typeface="Arial Narrow"/>
                        </a:rPr>
                        <a:t>students, communicatio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 </a:t>
                      </a:r>
                      <a:r>
                        <a:rPr b="1" lang="en-AU" sz="1400" spc="-1" strike="noStrike">
                          <a:solidFill>
                            <a:srgbClr val="000000"/>
                          </a:solidFill>
                          <a:latin typeface="Arial Narrow"/>
                        </a:rPr>
                        <a:t>staff,  HO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Whole dept discussion evaluating status 2010</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HRT to collate and feed back.</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ction points to be followed up.</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Discussion sheets as record of meeting</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1</a:t>
                      </a:r>
                      <a:r>
                        <a:rPr b="1" lang="en-AU" sz="1400" spc="-1" strike="noStrike" baseline="30000">
                          <a:solidFill>
                            <a:srgbClr val="000000"/>
                          </a:solidFill>
                          <a:latin typeface="Arial Narrow"/>
                        </a:rPr>
                        <a:t>st</a:t>
                      </a:r>
                      <a:r>
                        <a:rPr b="1" lang="en-AU" sz="1400" spc="-1" strike="noStrike">
                          <a:solidFill>
                            <a:srgbClr val="000000"/>
                          </a:solidFill>
                          <a:latin typeface="Arial Narrow"/>
                        </a:rPr>
                        <a:t> Review Meeting - Term 2 2010.</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HRT to follow up in Term</a:t>
                      </a:r>
                      <a:r>
                        <a:rPr b="1" lang="en-AU"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23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Preparing for new matrix for Year 11 (2011), Yr 12 (2012) and Yr 13 (2.13).</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viewing current courses. </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PD at Kohia.</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HOF/TIC of Year 11 and SCT meeting and planning of new course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Looking at how other schools are approaching new matrix.</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dvisor called in</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ttendance at Kohia PD.</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New course outlines for Year 11 2011.</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NAME Level 1 implementation day attendance in Term 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Term 2 2010 through to end of yea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9317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Internal Assessment and moderatio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Feedback from staff.</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Meeting of unit holders in Facult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HRT produced booklet for Assessment Practice and Moderation – distributed to all staff.</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Booklet of ‘Assessment Practice and Moderation in English and Media’.</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vised practice for administration of internal assessment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Term 2 2010.</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Bold"/>
              </a:rPr>
              <a:t>FACULTY HEAD SOC SCIENCE</a:t>
            </a:r>
            <a:endParaRPr b="0" lang="en-US" sz="2800" spc="-1" strike="noStrike">
              <a:solidFill>
                <a:srgbClr val="000000"/>
              </a:solidFill>
              <a:latin typeface="Arial"/>
            </a:endParaRPr>
          </a:p>
        </p:txBody>
      </p:sp>
      <p:graphicFrame>
        <p:nvGraphicFramePr>
          <p:cNvPr id="94" name=""/>
          <p:cNvGraphicFramePr/>
          <p:nvPr/>
        </p:nvGraphicFramePr>
        <p:xfrm>
          <a:off x="76320" y="601560"/>
          <a:ext cx="9067680" cy="6097680"/>
        </p:xfrm>
        <a:graphic>
          <a:graphicData uri="http://schemas.openxmlformats.org/drawingml/2006/table">
            <a:tbl>
              <a:tblPr/>
              <a:tblGrid>
                <a:gridCol w="2209680"/>
                <a:gridCol w="2327400"/>
                <a:gridCol w="2244600"/>
                <a:gridCol w="2286000"/>
              </a:tblGrid>
              <a:tr h="337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FOCU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PROC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REVIE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12924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Year 9 units changed to conceptual units with TRUMP</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write unit plans for new curriculum</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Co-construction in team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haring and feedback</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New plans shared with all staff</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urvey of student voice</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Course review at end of year</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27399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TAFF VOI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gular discussion via staff meeing review and informal re; curriculum relevance and delivery Eg: trends analysis of strengths &amp; weaknesses post-testing/exam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Formal surveys requiring staff input to evaluating/critiquing procedures and proposing change</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Meeting minute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Culture developed of ‘continuous improvement’</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Noted in self-review folder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Written responses that feed into dept strategic plan/goal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Ongoing changes made to curriculum delivery and Annual review</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Dept strategic plan/goals reviewed annually</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1762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Times New Roman"/>
                        </a:rPr>
                        <a:t>STUDENT VOICE</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End-of-topic evaluations (Y9/10)</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kill/assessment evaluation</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Post-assessment evaluations of feedback/feedforward</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Engagement with topics</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Bookwork response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Eg ICT survey</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Evaluation within marking guide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Sheet in back of student books</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Votes on myclasses site</a:t>
                      </a:r>
                      <a:r>
                        <a:rPr b="1" lang="en-AU" sz="1400" spc="-1" strike="noStrike">
                          <a:solidFill>
                            <a:srgbClr val="000000"/>
                          </a:solidFill>
                          <a:latin typeface="Times New Roman"/>
                        </a:rPr>
                        <a:t>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Responses inform changes to teaching/curriculum delivery</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nnual review</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nnual review</a:t>
                      </a:r>
                      <a:endParaRPr b="0" lang="en-US" sz="1400" spc="-1" strike="noStrike">
                        <a:solidFill>
                          <a:srgbClr val="000000"/>
                        </a:solidFill>
                        <a:latin typeface="Arial"/>
                      </a:endParaRPr>
                    </a:p>
                    <a:p>
                      <a:pPr>
                        <a:lnSpc>
                          <a:spcPct val="100000"/>
                        </a:lnSpc>
                        <a:spcBef>
                          <a:spcPts val="34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Narrow"/>
                        </a:rPr>
                        <a:t>Annual review</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HOD CAREERS</a:t>
            </a:r>
            <a:endParaRPr b="0" lang="en-US" sz="2800" spc="-1" strike="noStrike">
              <a:solidFill>
                <a:srgbClr val="000000"/>
              </a:solidFill>
              <a:latin typeface="Arial"/>
            </a:endParaRPr>
          </a:p>
        </p:txBody>
      </p:sp>
      <p:pic>
        <p:nvPicPr>
          <p:cNvPr id="96" name="" descr=""/>
          <p:cNvPicPr/>
          <p:nvPr/>
        </p:nvPicPr>
        <p:blipFill>
          <a:blip r:embed="rId1"/>
          <a:stretch/>
        </p:blipFill>
        <p:spPr>
          <a:xfrm>
            <a:off x="0" y="898560"/>
            <a:ext cx="8991720" cy="595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LEARNING OUTCOMES</a:t>
            </a:r>
            <a:br>
              <a:rPr sz="2800"/>
            </a:br>
            <a:r>
              <a:rPr b="0" lang="en-US" sz="2400" spc="-1" strike="noStrike">
                <a:solidFill>
                  <a:srgbClr val="000000"/>
                </a:solidFill>
                <a:latin typeface="Arial"/>
              </a:rPr>
              <a:t>To be familiar with:</a:t>
            </a:r>
            <a:endParaRPr b="0" lang="en-US" sz="2400" spc="-1" strike="noStrike">
              <a:solidFill>
                <a:srgbClr val="000000"/>
              </a:solidFill>
              <a:latin typeface="Arial"/>
            </a:endParaRPr>
          </a:p>
        </p:txBody>
      </p:sp>
      <p:sp>
        <p:nvSpPr>
          <p:cNvPr id="54" name="PlaceHolder 2"/>
          <p:cNvSpPr>
            <a:spLocks noGrp="1"/>
          </p:cNvSpPr>
          <p:nvPr>
            <p:ph/>
          </p:nvPr>
        </p:nvSpPr>
        <p:spPr>
          <a:xfrm>
            <a:off x="151920" y="1752480"/>
            <a:ext cx="8991720" cy="4114800"/>
          </a:xfrm>
          <a:prstGeom prst="rect">
            <a:avLst/>
          </a:prstGeom>
          <a:solidFill>
            <a:srgbClr val="ccffff">
              <a:alpha val="28000"/>
            </a:srgbClr>
          </a:solidFill>
          <a:ln w="0">
            <a:noFill/>
          </a:ln>
        </p:spPr>
        <p:txBody>
          <a:bodyPr lIns="90000" rIns="90000" tIns="46800" bIns="46800" anchor="t">
            <a:normAutofit/>
          </a:bodyPr>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THE SELF REVIEW MO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COMPLI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STRATEGIC VERSUS REGULAR PLANN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DATA GATHERING</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SMT RO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HOF RO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Verdana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TEACHER ROL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TEACHERS</a:t>
            </a:r>
            <a:endParaRPr b="0" lang="en-US" sz="4400" spc="-1" strike="noStrike">
              <a:solidFill>
                <a:srgbClr val="000000"/>
              </a:solidFill>
              <a:latin typeface="Arial"/>
            </a:endParaRPr>
          </a:p>
        </p:txBody>
      </p:sp>
      <p:graphicFrame>
        <p:nvGraphicFramePr>
          <p:cNvPr id="98" name=""/>
          <p:cNvGraphicFramePr/>
          <p:nvPr/>
        </p:nvGraphicFramePr>
        <p:xfrm>
          <a:off x="380880" y="1371600"/>
          <a:ext cx="8534520" cy="4913280"/>
        </p:xfrm>
        <a:graphic>
          <a:graphicData uri="http://schemas.openxmlformats.org/drawingml/2006/table">
            <a:tbl>
              <a:tblPr/>
              <a:tblGrid>
                <a:gridCol w="2133720"/>
                <a:gridCol w="2133720"/>
                <a:gridCol w="2133360"/>
                <a:gridCol w="2133720"/>
              </a:tblGrid>
              <a:tr h="380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FOCU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PROCES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EVIDENC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Verdana Bold"/>
                        </a:rPr>
                        <a:t>REVIEW</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2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4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1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960" y="6248520"/>
            <a:ext cx="8839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Bold"/>
              </a:rPr>
              <a:t>JO HARTS WORDLE FOR THE ENGLISH SCHEME</a:t>
            </a:r>
            <a:endParaRPr b="0" lang="en-US" sz="2400" spc="-1" strike="noStrike">
              <a:solidFill>
                <a:srgbClr val="000000"/>
              </a:solidFill>
              <a:latin typeface="Arial"/>
            </a:endParaRPr>
          </a:p>
        </p:txBody>
      </p:sp>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609480" y="304920"/>
            <a:ext cx="838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Bold"/>
              </a:rPr>
              <a:t>JO HART’S WORDLE FOR THE ENGLISH SCHE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STARTING POINT</a:t>
            </a:r>
            <a:endParaRPr b="0" lang="en-US" sz="2800" spc="-1" strike="noStrike">
              <a:solidFill>
                <a:srgbClr val="000000"/>
              </a:solidFill>
              <a:latin typeface="Arial"/>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23760"/>
            <a:ext cx="9144000" cy="6905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152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Bold"/>
              </a:rPr>
              <a:t>ERO AND SELF REVIEW</a:t>
            </a:r>
            <a:endParaRPr b="0" lang="en-US" sz="2800" spc="-1" strike="noStrike">
              <a:solidFill>
                <a:srgbClr val="000000"/>
              </a:solidFill>
              <a:latin typeface="Arial"/>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
          <p:cNvSpPr/>
          <p:nvPr/>
        </p:nvSpPr>
        <p:spPr>
          <a:xfrm>
            <a:off x="7899480" y="3233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4" name=""/>
          <p:cNvSpPr/>
          <p:nvPr/>
        </p:nvSpPr>
        <p:spPr>
          <a:xfrm>
            <a:off x="533520" y="762120"/>
            <a:ext cx="8305560" cy="3155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804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40"/>
                </a:solidFill>
                <a:latin typeface="Verdana"/>
              </a:rPr>
              <a:t>Student learning:  engagement, achievement and progress</a:t>
            </a:r>
            <a:endParaRPr b="0" lang="en-US" sz="2400" spc="-1" strike="noStrike">
              <a:solidFill>
                <a:srgbClr val="000000"/>
              </a:solidFill>
              <a:latin typeface="Arial"/>
            </a:endParaRPr>
          </a:p>
          <a:p>
            <a:pPr>
              <a:lnSpc>
                <a:spcPct val="100000"/>
              </a:lnSpc>
              <a:spcAft>
                <a:spcPts val="213"/>
              </a:spcAft>
              <a:buClr>
                <a:srgbClr val="00804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40"/>
                </a:solidFill>
                <a:latin typeface="Verdana"/>
              </a:rPr>
              <a:t> </a:t>
            </a:r>
            <a:r>
              <a:rPr b="1" lang="en-US" sz="2400" spc="-1" strike="noStrike">
                <a:solidFill>
                  <a:srgbClr val="008040"/>
                </a:solidFill>
                <a:latin typeface="Verdana"/>
              </a:rPr>
              <a:t>Effective teaching</a:t>
            </a:r>
            <a:endParaRPr b="0" lang="en-US" sz="2400" spc="-1" strike="noStrike">
              <a:solidFill>
                <a:srgbClr val="000000"/>
              </a:solidFill>
              <a:latin typeface="Arial"/>
            </a:endParaRPr>
          </a:p>
          <a:p>
            <a:pPr>
              <a:lnSpc>
                <a:spcPct val="100000"/>
              </a:lnSpc>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333399"/>
                </a:solidFill>
                <a:latin typeface="Verdana"/>
              </a:rPr>
              <a:t>Leading and managing the school</a:t>
            </a:r>
            <a:endParaRPr b="0" lang="en-US" sz="2400" spc="-1" strike="noStrike">
              <a:solidFill>
                <a:srgbClr val="000000"/>
              </a:solidFill>
              <a:latin typeface="Arial"/>
            </a:endParaRPr>
          </a:p>
          <a:p>
            <a:pPr>
              <a:lnSpc>
                <a:spcPct val="100000"/>
              </a:lnSpc>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009999"/>
                </a:solidFill>
                <a:latin typeface="Verdana"/>
              </a:rPr>
              <a:t>Governing the school</a:t>
            </a:r>
            <a:endParaRPr b="0" lang="en-US" sz="2400" spc="-1" strike="noStrike">
              <a:solidFill>
                <a:srgbClr val="000000"/>
              </a:solidFill>
              <a:latin typeface="Arial"/>
            </a:endParaRPr>
          </a:p>
          <a:p>
            <a:pPr>
              <a:lnSpc>
                <a:spcPct val="100000"/>
              </a:lnSpc>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ff0080"/>
                </a:solidFill>
                <a:latin typeface="Verdana"/>
              </a:rPr>
              <a:t>Safe and inclusive school culture</a:t>
            </a:r>
            <a:endParaRPr b="0" lang="en-US" sz="2400" spc="-1" strike="noStrike">
              <a:solidFill>
                <a:srgbClr val="000000"/>
              </a:solidFill>
              <a:latin typeface="Arial"/>
            </a:endParaRPr>
          </a:p>
          <a:p>
            <a:pPr>
              <a:lnSpc>
                <a:spcPct val="100000"/>
              </a:lnSpc>
              <a:spcAft>
                <a:spcPts val="213"/>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 </a:t>
            </a:r>
            <a:r>
              <a:rPr b="1" lang="en-US" sz="2400" spc="-1" strike="noStrike">
                <a:solidFill>
                  <a:srgbClr val="804000"/>
                </a:solidFill>
                <a:latin typeface="Verdana"/>
              </a:rPr>
              <a:t>Engaging parents, whānau and communities. </a:t>
            </a:r>
            <a:endParaRPr b="0" lang="en-US" sz="2400" spc="-1" strike="noStrike">
              <a:solidFill>
                <a:srgbClr val="000000"/>
              </a:solidFill>
              <a:latin typeface="Arial"/>
            </a:endParaRPr>
          </a:p>
          <a:p>
            <a:pPr>
              <a:lnSpc>
                <a:spcPct val="10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5" name="" descr=""/>
          <p:cNvPicPr/>
          <p:nvPr/>
        </p:nvPicPr>
        <p:blipFill>
          <a:blip r:embed="rId1"/>
          <a:stretch/>
        </p:blipFill>
        <p:spPr>
          <a:xfrm>
            <a:off x="1600200" y="3429000"/>
            <a:ext cx="5791320" cy="342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 </a:t>
            </a:r>
            <a:r>
              <a:rPr b="0" lang="en-US" sz="2800" spc="-1" strike="noStrike">
                <a:solidFill>
                  <a:srgbClr val="000000"/>
                </a:solidFill>
                <a:latin typeface="Verdana Bold"/>
              </a:rPr>
              <a:t>A STARTING POINT</a:t>
            </a:r>
            <a:endParaRPr b="0" lang="en-US" sz="28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st ERO review 200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PT of key ideas from last ERO presentation on magspdwikispace</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magspd.wikispaces.com/ERO+AND+SELF+REVIEW</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features of ERO Reviews on the wikisp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so available on ERO site. www.ero.govt.nz</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Mags</a:t>
            </a:r>
            <a:r>
              <a:rPr b="0" lang="en-US" sz="2400" spc="-1" strike="noStrike" u="sng">
                <a:solidFill>
                  <a:srgbClr val="009999"/>
                </a:solidFill>
                <a:uFillTx/>
                <a:latin typeface="Arial"/>
                <a:hlinkClick r:id="rId3"/>
              </a:rPr>
              <a:t> </a:t>
            </a:r>
            <a:r>
              <a:rPr b="0" lang="en-US" sz="2400" spc="-1" strike="noStrike" u="sng">
                <a:solidFill>
                  <a:srgbClr val="009999"/>
                </a:solidFill>
                <a:uFillTx/>
                <a:latin typeface="Arial"/>
                <a:hlinkClick r:id="rId4"/>
              </a:rPr>
              <a:t>PD </a:t>
            </a:r>
            <a:r>
              <a:rPr b="0" lang="en-US" sz="2400" spc="-1" strike="noStrike" u="sng">
                <a:solidFill>
                  <a:srgbClr val="009999"/>
                </a:solidFill>
                <a:uFillTx/>
                <a:latin typeface="Arial"/>
                <a:hlinkClick r:id="rId5"/>
              </a:rPr>
              <a:t>wik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000000"/>
                </a:solidFill>
                <a:latin typeface="Arial"/>
              </a:rPr>
              <a:t> </a:t>
            </a:r>
            <a:r>
              <a:rPr b="1" lang="en-AU" sz="2400" spc="-1" strike="noStrike">
                <a:solidFill>
                  <a:srgbClr val="000000"/>
                </a:solidFill>
                <a:latin typeface="Verdana Bold"/>
              </a:rPr>
              <a:t>GOVERNANCE - BOT</a:t>
            </a:r>
            <a:endParaRPr b="0" lang="en-US" sz="2400" spc="-1" strike="noStrike">
              <a:solidFill>
                <a:srgbClr val="000000"/>
              </a:solidFill>
              <a:latin typeface="Arial"/>
            </a:endParaRPr>
          </a:p>
        </p:txBody>
      </p:sp>
      <p:sp>
        <p:nvSpPr>
          <p:cNvPr id="69" name="PlaceHolder 2"/>
          <p:cNvSpPr>
            <a:spLocks noGrp="1"/>
          </p:cNvSpPr>
          <p:nvPr>
            <p:ph/>
          </p:nvPr>
        </p:nvSpPr>
        <p:spPr>
          <a:xfrm>
            <a:off x="457200" y="838080"/>
            <a:ext cx="7772400" cy="4114800"/>
          </a:xfrm>
          <a:prstGeom prst="rect">
            <a:avLst/>
          </a:prstGeom>
          <a:noFill/>
          <a:ln w="0">
            <a:noFill/>
          </a:ln>
        </p:spPr>
        <p:txBody>
          <a:bodyPr lIns="90000" rIns="90000" tIns="46800" bIns="46800"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700" spc="-1" strike="noStrike">
                <a:solidFill>
                  <a:srgbClr val="000000"/>
                </a:solidFill>
                <a:latin typeface="Arial"/>
              </a:rPr>
              <a:t>Compliance but almost always completed by SMT members eg</a:t>
            </a:r>
            <a:endParaRPr b="0" lang="en-US" sz="2700" spc="-1" strike="noStrike">
              <a:solidFill>
                <a:srgbClr val="000000"/>
              </a:solidFill>
              <a:latin typeface="Arial"/>
            </a:endParaRPr>
          </a:p>
        </p:txBody>
      </p:sp>
      <p:sp>
        <p:nvSpPr>
          <p:cNvPr id="70" name=""/>
          <p:cNvSpPr/>
          <p:nvPr/>
        </p:nvSpPr>
        <p:spPr>
          <a:xfrm>
            <a:off x="609480" y="1776240"/>
            <a:ext cx="7620120" cy="5053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Board Administration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Curriculum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Health, Safety &amp; Welfare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Personnel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Financial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200" spc="-1" strike="noStrike">
                <a:solidFill>
                  <a:srgbClr val="000000"/>
                </a:solidFill>
                <a:latin typeface="Verdana"/>
              </a:rPr>
              <a:t>Asset Management Compliance Guide</a:t>
            </a:r>
            <a:r>
              <a:rPr b="1" sz="2200" spc="-1" strike="noStrike">
                <a:solidFill>
                  <a:srgbClr val="000000"/>
                </a:solidFill>
                <a:latin typeface="Verdana"/>
              </a:rPr>
              <a:t>	</a:t>
            </a:r>
            <a:endParaRPr b="0" lang="en-US" sz="2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Verdana"/>
              </a:rPr>
              <a:t>Key legislation</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6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2120" y="838080"/>
            <a:ext cx="8076960" cy="5677200"/>
          </a:xfrm>
          <a:prstGeom prst="rect">
            <a:avLst/>
          </a:prstGeom>
          <a:ln w="9360">
            <a:solidFill>
              <a:srgbClr val="000000"/>
            </a:solidFill>
            <a:miter/>
          </a:ln>
        </p:spPr>
      </p:pic>
      <p:sp>
        <p:nvSpPr>
          <p:cNvPr id="72" name=""/>
          <p:cNvSpPr/>
          <p:nvPr/>
        </p:nvSpPr>
        <p:spPr>
          <a:xfrm>
            <a:off x="2209680" y="228600"/>
            <a:ext cx="541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Bold"/>
              </a:rPr>
              <a:t>EXAMPLE OF COMPLI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Bold"/>
              </a:rPr>
              <a:t> </a:t>
            </a:r>
            <a:r>
              <a:rPr b="0" lang="en-US" sz="2800" spc="-1" strike="noStrike">
                <a:solidFill>
                  <a:srgbClr val="000000"/>
                </a:solidFill>
                <a:latin typeface="Verdana Bold"/>
              </a:rPr>
              <a:t>PLANNING </a:t>
            </a:r>
            <a:br>
              <a:rPr sz="2800"/>
            </a:br>
            <a:r>
              <a:rPr b="0" lang="en-US" sz="2800" spc="-1" strike="noStrike">
                <a:solidFill>
                  <a:srgbClr val="000000"/>
                </a:solidFill>
                <a:latin typeface="Verdana Bold"/>
              </a:rPr>
              <a:t>STRATEGIC should align with REGULAR</a:t>
            </a:r>
            <a:endParaRPr b="0" lang="en-US" sz="2800" spc="-1" strike="noStrike">
              <a:solidFill>
                <a:srgbClr val="000000"/>
              </a:solidFill>
              <a:latin typeface="Arial"/>
            </a:endParaRPr>
          </a:p>
        </p:txBody>
      </p:sp>
      <p:sp>
        <p:nvSpPr>
          <p:cNvPr id="74" name="PlaceHolder 2"/>
          <p:cNvSpPr>
            <a:spLocks noGrp="1"/>
          </p:cNvSpPr>
          <p:nvPr>
            <p:ph/>
          </p:nvPr>
        </p:nvSpPr>
        <p:spPr>
          <a:xfrm>
            <a:off x="10287000" y="2209680"/>
            <a:ext cx="7772400" cy="41148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75" name=""/>
          <p:cNvGraphicFramePr/>
          <p:nvPr/>
        </p:nvGraphicFramePr>
        <p:xfrm>
          <a:off x="380880" y="1371600"/>
          <a:ext cx="8458200" cy="5180040"/>
        </p:xfrm>
        <a:graphic>
          <a:graphicData uri="http://schemas.openxmlformats.org/drawingml/2006/table">
            <a:tbl>
              <a:tblPr/>
              <a:tblGrid>
                <a:gridCol w="2225880"/>
                <a:gridCol w="365040"/>
                <a:gridCol w="2819520"/>
                <a:gridCol w="3047760"/>
              </a:tblGrid>
              <a:tr h="6058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BILIT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bbe0e3"/>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bbe0e3"/>
                    </a:solidFill>
                  </a:tcPr>
                </a:tc>
              </a:tr>
              <a:tr h="404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C 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4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 PL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DN-PPE-FACULTY</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MANAGEMENT</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V</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 AND WHEN</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DS CHANGE</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EM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HOF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OF THE YE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SMT-DEAN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403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PLAN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97416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PLANNER</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RM BY TER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bbe0e3"/>
                    </a:solid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OTC PLANNE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bbe0e3"/>
                    </a:solid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NUALLY-TERM BY TERM</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bbe0e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08T10:42:37Z</dcterms:created>
  <dc:creator>John Pipe</dc:creator>
  <dc:description/>
  <dc:language>en-US</dc:language>
  <cp:lastModifiedBy>John Pipe</cp:lastModifiedBy>
  <cp:lastPrinted>2010-06-27T21:04:45Z</cp:lastPrinted>
  <dcterms:modified xsi:type="dcterms:W3CDTF">2010-07-08T10:51:10Z</dcterms:modified>
  <cp:revision>2</cp:revision>
  <dc:subject/>
  <dc:title>Mount Albert Grammar School</dc:title>
</cp:coreProperties>
</file>